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E09-D7F7-4C0E-92F0-0D636CEF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BBA-2CF2-423D-A1BB-59291B34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EB7-917A-4396-AE16-3F450F0E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0DF-4572-47C9-90C8-B8CB23F9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A796-92E8-4CA6-AF5B-F6244604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B842-31D9-4B04-882A-4BF10B12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7478-9E90-4EC1-A93E-828B2048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06D3-EAC4-4EEB-96C1-611CBF34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E556-6424-409D-855D-C2A8DFC7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E0F7-28CB-4360-9134-0EBA8801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6695-9B74-435E-A358-F9BD34E3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F70-B603-4CD5-A23D-DE7951FD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D5EA-F77B-4FBD-B600-99C4AD50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6677-6567-4D4C-8701-82287D98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1204-8C5A-4BD2-B4F6-74C29EFF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F564-908A-4BA3-A5EF-18A42FF8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05E9-0827-44F8-9081-2B70B595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E0BC-B646-4625-9149-991904FE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512E-E160-4F90-923E-953D26FD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D6E4-D642-4290-BCBC-26BD09AC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45219-0C7D-404E-A29A-D2D3BAC6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67E6-EDD8-47DF-AF72-ACAAD39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EBD-3A26-404E-A8A8-05ABEED7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8B90-0EC1-4A3E-98E0-CE2D376E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B6A1-86F0-4A64-8637-555B2E91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B68A-5C37-4E53-ABBA-B0AC435F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26DCD-18B7-49A9-B9F4-69D5AC8D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6DFB0-CB3B-4C16-9A4D-8028ADCE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A66F5-7E47-44BC-88FE-41E12782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0CDE-7547-4B3F-8591-3CE51B75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AC0C-04D1-4B4D-BB57-1F1D1469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C8DED-E91F-4B92-B0F0-14825A44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FC9E0-DE28-4CEB-B7C9-0D0C4C5B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95A-585E-4BA2-9B85-1938E326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E468C-7DC3-4E50-83CC-5F4E60C0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A7F33-6F7D-43A1-8273-224CE18A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C695-3195-417F-8E99-C242612B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8D8C3-B543-4894-B817-3537DC4E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A5CB-8B64-4451-B7D8-D38BAB6F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9F26C-9F71-48B1-BE8B-2D49FF79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1EC19-7405-4A0E-BF96-F95CEBBF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160C-E200-4C7D-A9CA-CAB96995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6A70-8235-4861-935F-4366F75F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A79DD-38A9-428C-AE02-198F541D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790-27F6-4328-98C3-A17C7D69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D6C8A-6D0A-44CB-8A62-0511ACF2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31F74-22F8-4D9B-9EED-8BA0A932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925C1-072A-4915-9EC8-13A9EAF2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5216B-7F88-44D3-BE4A-DF9078AE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DCD95-6ABD-4F64-B2CC-ADF36586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CBFE8-3A0A-432B-BD4B-E16C51C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202A0-E5DE-4872-93F2-195FF96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87FF3-968D-406E-AD8E-F2B9CF27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7E18E-6252-4C9F-9B8F-9792E114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0EFD6-1B86-4FAF-9E86-A65D2D78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804-FD70-43ED-BC2D-266BF83D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64623-E734-4EF2-A05F-0219EAB1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4F411-A69B-405A-BF49-5DB08669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D5178-50D8-42CF-B27A-1D7DF2F0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CB5AB-5692-4B23-946E-D7F7C014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CD2A9-0557-488F-A6FF-7F27A3D0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3BE2A-A888-4B02-89D7-58182C8A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20D33-93AE-4AA6-833C-BEF16031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EC24B-1A9D-4157-92ED-C6857B90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CBFCE-67F3-4F3A-82EF-5B024F9B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6E4C2-FC02-4A34-ADCC-DC7D24D5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457-F778-41EA-8318-D2473121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378BF-664B-4F82-A65B-3ACBC2ED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DF3F4-5E41-4B2C-8BA1-A993454E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6E609-6A89-4B57-8E4E-A44A8F3F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158ED-DE55-46DD-A80E-86532F6B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5D29D-F21B-4BF8-8F98-36003795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1373D-8F55-46BB-ACDE-7365BCC0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5B441-B8A4-46A7-97EE-178EDEFA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52444-AA0C-465A-BEF2-74A727A5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AA616-5FFE-4E22-8E61-D36E2F69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79776-1AC8-450A-BA74-FD76A01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994-3C91-4A47-AA38-5B757FCC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44B60-5D41-4D1E-A51B-06F17EEA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E6B8B-0820-4058-AB39-28ADF6D7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5BF5-3493-4759-BE6D-C6F20C51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2A8D0-60AC-4DA3-B1DB-154AC015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4A4C1-0CAD-4F5A-A743-4B169512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99D-D424-49A4-AE71-CF31EDD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5BD6-6D1C-4A51-8DC2-9BDB5D03FE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FFE6-28C9-4F60-A130-D7DDFF743B5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1AB6-827A-4296-9E23-53EA84CF733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9864-DA64-4B42-BC98-2E7C30368B7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97BD-6526-41CF-9391-C6251A0C3A6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EF17-6024-486B-AC95-4207AD749E7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5D74-A603-4CFF-AAA0-727C77F7289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 Knezev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rris Sad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Sti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ch Zieg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[photo]"/>
          <p:cNvPicPr/>
          <p:nvPr/>
        </p:nvPicPr>
        <p:blipFill>
          <a:blip r:embed="rId1"/>
          <a:stretch/>
        </p:blipFill>
        <p:spPr>
          <a:xfrm>
            <a:off x="0" y="0"/>
            <a:ext cx="5181480" cy="6794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[photo]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2639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5334120" y="312408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ove: Jews fighting over a slice of bread in a concentration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ft: German Gaurds burning a mass amount of J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" descr="[photo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[photo]"/>
          <p:cNvPicPr/>
          <p:nvPr/>
        </p:nvPicPr>
        <p:blipFill>
          <a:blip r:embed="rId1"/>
          <a:stretch/>
        </p:blipFill>
        <p:spPr>
          <a:xfrm>
            <a:off x="0" y="0"/>
            <a:ext cx="535788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[photo]"/>
          <p:cNvPicPr/>
          <p:nvPr/>
        </p:nvPicPr>
        <p:blipFill>
          <a:blip r:embed="rId2"/>
          <a:stretch/>
        </p:blipFill>
        <p:spPr>
          <a:xfrm>
            <a:off x="6773760" y="0"/>
            <a:ext cx="237024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5486400" y="228600"/>
            <a:ext cx="137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ft: A Jewish Jacket made of a very thin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: an electric Fence Post in Auschw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[photo]"/>
          <p:cNvPicPr/>
          <p:nvPr/>
        </p:nvPicPr>
        <p:blipFill>
          <a:blip r:embed="rId1"/>
          <a:stretch/>
        </p:blipFill>
        <p:spPr>
          <a:xfrm>
            <a:off x="2011320" y="0"/>
            <a:ext cx="49528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[photo]"/>
          <p:cNvPicPr/>
          <p:nvPr/>
        </p:nvPicPr>
        <p:blipFill>
          <a:blip r:embed="rId1"/>
          <a:stretch/>
        </p:blipFill>
        <p:spPr>
          <a:xfrm>
            <a:off x="0" y="380880"/>
            <a:ext cx="9166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5:39:12Z</dcterms:created>
  <dc:creator>Installer</dc:creator>
  <dc:description/>
  <dc:language>en-US</dc:language>
  <cp:lastModifiedBy>Information Technology</cp:lastModifiedBy>
  <dcterms:modified xsi:type="dcterms:W3CDTF">2010-02-11T15:34:04Z</dcterms:modified>
  <cp:revision>8</cp:revision>
  <dc:subject/>
  <dc:title>A Jew in Europe</dc:title>
</cp:coreProperties>
</file>